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7.png" ContentType="image/png"/>
  <Override PartName="/ppt/media/image33.jpeg" ContentType="image/jpe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2.png" ContentType="image/png"/>
  <Override PartName="/ppt/media/image42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43.png" ContentType="image/png"/>
  <Override PartName="/ppt/media/image45.jpeg" ContentType="image/jpeg"/>
  <Override PartName="/ppt/media/image4.wmf" ContentType="image/x-wmf"/>
  <Override PartName="/ppt/media/image5.png" ContentType="image/png"/>
  <Override PartName="/ppt/media/image35.png" ContentType="image/png"/>
  <Override PartName="/ppt/media/image12.png" ContentType="image/png"/>
  <Override PartName="/ppt/media/image7.png" ContentType="image/png"/>
  <Override PartName="/ppt/media/image44.gif" ContentType="image/gif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0.png" ContentType="image/pn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C22E-FA66-42C4-9A28-383EB495F6E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7B2B-125B-4168-B646-AA3F67F2377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00D-C6D5-4986-BEBA-A52C51E6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0F0-98F0-4375-8312-C81E2A44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A05-F089-4B24-8ADE-48AC4F02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D1B-F598-4C02-8069-C03B6E32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971-F7DA-49BF-9F3A-EFD9C619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C156-68F3-4406-932E-A4A45B7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F38-5985-4EC9-A530-206B003D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C80-4E30-42E6-8E25-470AFB14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6B8-BFD3-4FA0-9AB5-0AE5C8B6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AAB-0280-401D-BB46-46F204FD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C84-9020-4ACD-A116-14A6A9F0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F08-2A92-4610-95B6-C52683F1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F720-8434-47BD-9214-755B4868D6FA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99"/>
                </a:solidFill>
                <a:latin typeface="Arial"/>
              </a:rPr>
              <a:t>Radiologija</a:t>
            </a:r>
            <a:br>
              <a:rPr sz="4000"/>
            </a:br>
            <a:r>
              <a:rPr b="0" lang="sr-Latn-CS" sz="4000" spc="-1" strike="noStrike">
                <a:solidFill>
                  <a:srgbClr val="ffff99"/>
                </a:solidFill>
                <a:latin typeface="Arial"/>
              </a:rPr>
              <a:t>paranazalnih šupljin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rof dr Sne</a:t>
            </a:r>
            <a:r>
              <a:rPr b="0" lang="sr-Latn-RS" sz="2000" spc="-1" strike="noStrike">
                <a:solidFill>
                  <a:srgbClr val="00ff00"/>
                </a:solidFill>
                <a:latin typeface="Arial"/>
              </a:rPr>
              <a:t>žana Luki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611280" y="549360"/>
            <a:ext cx="2808360" cy="722160"/>
            <a:chOff x="611280" y="549360"/>
            <a:chExt cx="2808360" cy="722160"/>
          </a:xfrm>
        </p:grpSpPr>
        <p:graphicFrame>
          <p:nvGraphicFramePr>
            <p:cNvPr id="51" name="Object 5"/>
            <p:cNvGraphicFramePr/>
            <p:nvPr/>
          </p:nvGraphicFramePr>
          <p:xfrm>
            <a:off x="1979640" y="549360"/>
            <a:ext cx="720720" cy="717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549360"/>
                      <a:ext cx="720720" cy="71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" name="Object 6"/>
            <p:cNvGraphicFramePr/>
            <p:nvPr/>
          </p:nvGraphicFramePr>
          <p:xfrm>
            <a:off x="2700360" y="549360"/>
            <a:ext cx="719280" cy="701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00360" y="549360"/>
                      <a:ext cx="719280" cy="70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5" name="Picture 7" descr="grb fakt"/>
            <p:cNvPicPr/>
            <p:nvPr/>
          </p:nvPicPr>
          <p:blipFill>
            <a:blip r:embed="rId5"/>
            <a:stretch/>
          </p:blipFill>
          <p:spPr>
            <a:xfrm>
              <a:off x="611280" y="622080"/>
              <a:ext cx="612720" cy="647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" name="Object 8"/>
            <p:cNvGraphicFramePr/>
            <p:nvPr/>
          </p:nvGraphicFramePr>
          <p:xfrm>
            <a:off x="1260360" y="549360"/>
            <a:ext cx="719280" cy="722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7" name="Object 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260360" y="549360"/>
                      <a:ext cx="71928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sinus Ethmoidalis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Formiran u vidu lavirinta 7-15 manjih pneumatskih šupljina. V=9 m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Gornji svod tanka koštana lamina poda prednje lobanjske ja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Lateralno lamina papyracea prema orbi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Distalno prema nosnoj šuplji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ednja grupa ćelija se otvara u srednjem nosnom hodnik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Zadnja grupa ćelija sa otvorom u gornjem nosnom hodnik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95" name="Picture 5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3240">
              <a:solidFill>
                <a:srgbClr val="ffffff"/>
              </a:solidFill>
              <a:miter/>
            </a:ln>
          </p:spPr>
        </p:pic>
        <p:sp>
          <p:nvSpPr>
            <p:cNvPr id="96" name="Rectangle 6"/>
            <p:cNvSpPr/>
            <p:nvPr/>
          </p:nvSpPr>
          <p:spPr>
            <a:xfrm>
              <a:off x="1982160" y="573408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Axial sc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4832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Lamina cribriformis medijalno i niže od krova etmoidalnog sinusa za nekoliko m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i kiretiranju instrument ne sme da uđe medijalno od srednje nosne školj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rcRect l="22667" t="27164" r="29321" b="12330"/>
          <a:stretch/>
        </p:blipFill>
        <p:spPr>
          <a:xfrm>
            <a:off x="468360" y="549360"/>
            <a:ext cx="3754440" cy="5111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99" name="Rectangle 9"/>
          <p:cNvSpPr/>
          <p:nvPr/>
        </p:nvSpPr>
        <p:spPr>
          <a:xfrm>
            <a:off x="470880" y="54936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Coronal sc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0" descr="DSC08803"/>
          <p:cNvPicPr/>
          <p:nvPr/>
        </p:nvPicPr>
        <p:blipFill>
          <a:blip r:embed="rId2"/>
          <a:srcRect l="3870" t="0" r="6549" b="0"/>
          <a:stretch/>
        </p:blipFill>
        <p:spPr>
          <a:xfrm>
            <a:off x="3851280" y="3284640"/>
            <a:ext cx="2274840" cy="338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sinus Sphenoidalis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Zauzima telo a ponekad i krilo sfenoidalne kos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ankom koštanom pregrad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L-D, grubo saćaste struk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irine 0,9-1,4 cm, V= 5 m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Gornji zid odgovara turskom sedl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poljni zid u neposrednom kontaktu sa optičkim živc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tvor na prednje gornjem delu prednjeg zida a sa nosnim hodnikom komunicira posredno preko recesus spheno-ethmoidal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104" name="Picture 5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3240">
              <a:solidFill>
                <a:srgbClr val="ffffff"/>
              </a:solidFill>
              <a:miter/>
            </a:ln>
          </p:spPr>
        </p:pic>
        <p:sp>
          <p:nvSpPr>
            <p:cNvPr id="105" name="Rectangle 6"/>
            <p:cNvSpPr/>
            <p:nvPr/>
          </p:nvSpPr>
          <p:spPr>
            <a:xfrm>
              <a:off x="1982160" y="573408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Axial sc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Snimak PNŠ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611280" y="1600200"/>
            <a:ext cx="3889440" cy="47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432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Arial"/>
              </a:rPr>
              <a:t>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tojeći ili sedeći sta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Glava licem prema filmu oslonjena brada-nos sa otvorenim ust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Z 1,5 cm iznad protuberantie occ.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cran-kaud zakošen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2158920" cy="18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11280" y="907920"/>
            <a:ext cx="40384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5521320" y="907920"/>
            <a:ext cx="301140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4932360" y="4292640"/>
            <a:ext cx="360036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cena radiogr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axilarni, sfenoidalni, etmoidalni i čeoni sinu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Sinusitis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Acut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nilat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dontogene for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edisponirajući fakto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deformacija septuma, hipertrofija conhi, nagle promene pritiska (let avionom, plivanje, ronjenje, baro komora), trau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7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4038480" cy="485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1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692360" y="5229360"/>
            <a:ext cx="2158920" cy="10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Acut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Bilat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erogene infekcije (rinitis mešane flo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manjenim dozama, inicijalno obostrano mekotkivno zasenčenje pp.l.dex sa jasnom transparencijom for.rotunduma l.d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122720" cy="43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Picture 8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215892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Hronič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nilat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dontogene for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ekotkivno zadebljanje sluznice neravnomerne debljine sa centralnim rasvetljenjam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Vidljivi devitalizirani zubi u ant regiji maxi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manjena transparencija centralnog dela govori o egzarcerbaciji proc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940200" cy="41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Picture 8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692360" y="4869000"/>
            <a:ext cx="2158920" cy="10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rcRect l="10696" t="0" r="12622" b="0"/>
          <a:stretch/>
        </p:blipFill>
        <p:spPr>
          <a:xfrm>
            <a:off x="900000" y="1125360"/>
            <a:ext cx="3097440" cy="29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Zadebljanje koštanih zidov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T posteriornog z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lveolarnog dela kos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rcRect l="0" t="0" r="0" b="2535"/>
          <a:stretch/>
        </p:blipFill>
        <p:spPr>
          <a:xfrm>
            <a:off x="3708360" y="3141720"/>
            <a:ext cx="4321080" cy="28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upi bolovi, dugotrjne glavobol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ekotkivno zasenčenja kompletnog L.max.s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ekotkivna zadebljanja i delimično u D.etmoid.sin. koja nisu viđena na plain rt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rcRect l="4691" t="45145" r="38097" b="4446"/>
          <a:stretch/>
        </p:blipFill>
        <p:spPr>
          <a:xfrm>
            <a:off x="611280" y="907920"/>
            <a:ext cx="3948120" cy="439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Nosna šupljina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natomija simetrič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Velič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lobodne Aer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osni septim na sred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osne con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 tri sa obe strane uredno razvij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17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3591000" cy="50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18" descr=""/>
          <p:cNvPicPr/>
          <p:nvPr/>
        </p:nvPicPr>
        <p:blipFill>
          <a:blip r:embed="rId2"/>
          <a:stretch/>
        </p:blipFill>
        <p:spPr>
          <a:xfrm>
            <a:off x="4500720" y="4437000"/>
            <a:ext cx="1779480" cy="201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19" descr=""/>
          <p:cNvPicPr/>
          <p:nvPr/>
        </p:nvPicPr>
        <p:blipFill>
          <a:blip r:embed="rId3"/>
          <a:stretch/>
        </p:blipFill>
        <p:spPr>
          <a:xfrm>
            <a:off x="826920" y="5734080"/>
            <a:ext cx="3600720" cy="7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py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ivo tečnosti se može videti u acc. i chr. sinusitis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kretanjem glave tečnost se pomera kao u čaši. Dif.dg u odnosu na zadebljanje mukoz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692360" y="5229360"/>
            <a:ext cx="2158920" cy="10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8" descr=""/>
          <p:cNvPicPr/>
          <p:nvPr/>
        </p:nvPicPr>
        <p:blipFill>
          <a:blip r:embed="rId2"/>
          <a:srcRect l="6145" t="3401" r="51545" b="65746"/>
          <a:stretch/>
        </p:blipFill>
        <p:spPr>
          <a:xfrm>
            <a:off x="611280" y="907920"/>
            <a:ext cx="3960720" cy="375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9" descr=""/>
          <p:cNvPicPr/>
          <p:nvPr/>
        </p:nvPicPr>
        <p:blipFill>
          <a:blip r:embed="rId3"/>
          <a:srcRect l="51206" t="3797" r="6472" b="65746"/>
          <a:stretch/>
        </p:blipFill>
        <p:spPr>
          <a:xfrm>
            <a:off x="5219640" y="4005360"/>
            <a:ext cx="2232000" cy="20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Mukokela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tagnacija sluzi usled neprohodnog izvodnog kana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1. fa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asimptomatsko u fiziološkim granicama sinu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ekotkivno ovalno zasenčenje, vezano širokom osnovom za baz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2. fa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destrukciom kosti i prodom u okoli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7" descr="sinus_mukokela"/>
          <p:cNvPicPr/>
          <p:nvPr/>
        </p:nvPicPr>
        <p:blipFill>
          <a:blip r:embed="rId1"/>
          <a:srcRect l="0" t="11995" r="0" b="0"/>
          <a:stretch/>
        </p:blipFill>
        <p:spPr>
          <a:xfrm>
            <a:off x="468360" y="1484280"/>
            <a:ext cx="404964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Picture 8" descr=""/>
          <p:cNvPicPr/>
          <p:nvPr/>
        </p:nvPicPr>
        <p:blipFill>
          <a:blip r:embed="rId2"/>
          <a:stretch/>
        </p:blipFill>
        <p:spPr>
          <a:xfrm>
            <a:off x="1332000" y="5589720"/>
            <a:ext cx="2158920" cy="10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Hydrocela, Piocela, Pneumatocela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Komplikaci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inusogene - osteomielit (acc., ch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rbitalne - otok kapaka, subperiostalni apsces, celilit, flegmona orbite, neuritis n. optic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ndokranijalne - extraduralni i subduralni apsces, apsces mozga, leptomeningit, tromboza kavernoznog sinu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spiratorne - zapaljenja disajnih puteva, bronhiektazije, astma bronchiale, fokalne onfekci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honcha med.bulosa l.s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Desna intranasalna anrtosto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"/>
          <p:cNvPicPr/>
          <p:nvPr/>
        </p:nvPicPr>
        <p:blipFill>
          <a:blip r:embed="rId1"/>
          <a:srcRect l="50515" t="45816" r="5782" b="22710"/>
          <a:stretch/>
        </p:blipFill>
        <p:spPr>
          <a:xfrm>
            <a:off x="539640" y="1773360"/>
            <a:ext cx="3168720" cy="296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Odontogene ciste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Folikular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ko zametka zuba koji nije iznika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Radikular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ko korena mrtvog z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Izbočenje na alveolarnom nastavku ili prednjem zidu max.s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rcRect l="0" t="0" r="0" b="1531"/>
          <a:stretch/>
        </p:blipFill>
        <p:spPr>
          <a:xfrm>
            <a:off x="468360" y="1989000"/>
            <a:ext cx="4095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10"/>
          <p:cNvSpPr/>
          <p:nvPr/>
        </p:nvSpPr>
        <p:spPr>
          <a:xfrm>
            <a:off x="54180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87640" cy="278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koro u celini ispunjava maxilarni sin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21, 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>
            <a:lum contrast="12000"/>
          </a:blip>
          <a:srcRect l="0" t="0" r="0" b="1870"/>
          <a:stretch/>
        </p:blipFill>
        <p:spPr>
          <a:xfrm>
            <a:off x="3132000" y="3429000"/>
            <a:ext cx="4589640" cy="29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Osteom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Benigni, polaze iz perio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Intrakavitar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olitarni, asimptomatsk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Front.sin., ovalni, homogeni, oštro ograničeni, vezani za z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Exteritorijal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zurpiraju zidove sin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G osteom 1"/>
          <p:cNvPicPr/>
          <p:nvPr/>
        </p:nvPicPr>
        <p:blipFill>
          <a:blip r:embed="rId1"/>
          <a:srcRect l="3933" t="0" r="3933" b="23008"/>
          <a:stretch/>
        </p:blipFill>
        <p:spPr>
          <a:xfrm>
            <a:off x="611280" y="1628640"/>
            <a:ext cx="3801960" cy="391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Maligni TU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rcRect l="0" t="0" r="0" b="2316"/>
          <a:stretch/>
        </p:blipFill>
        <p:spPr>
          <a:xfrm>
            <a:off x="755640" y="1341360"/>
            <a:ext cx="3394080" cy="44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t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Epitelnog porekl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a planocellulare, adenocarcinoma, cilindroma, adamantino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orekla </a:t>
            </a: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Vezivnog tkiv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fibro-hondro-osteo sarcoma, lymphosarcoma, reticulosarcoma, plasmocitoma, melanoma malign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2"/>
          <a:srcRect l="0" t="0" r="0" b="3170"/>
          <a:stretch/>
        </p:blipFill>
        <p:spPr>
          <a:xfrm>
            <a:off x="2843280" y="4365720"/>
            <a:ext cx="1638360" cy="22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99"/>
                </a:solidFill>
                <a:latin typeface="Arial"/>
              </a:rPr>
              <a:t>Strana tela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4038480" cy="233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Antroli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aloženjem soli oko sekreta u sinus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Fragment korena 2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2"/>
          <a:stretch/>
        </p:blipFill>
        <p:spPr>
          <a:xfrm>
            <a:off x="1332000" y="4508640"/>
            <a:ext cx="2160360" cy="107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692360" y="3429000"/>
            <a:ext cx="5759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Metalna str.tela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delovi zubarskih igala pri devitalizaciji zub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komadići metala od eksplozij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eci vazdušnih pušak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P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statak punjenja kanala zuba 25 superponira se u orbi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480000" cy="28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opta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92360" y="1268280"/>
            <a:ext cx="576000" cy="524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nosevi"/>
          <p:cNvPicPr/>
          <p:nvPr/>
        </p:nvPicPr>
        <p:blipFill>
          <a:blip r:embed="rId2"/>
          <a:stretch/>
        </p:blipFill>
        <p:spPr>
          <a:xfrm>
            <a:off x="3132000" y="1628640"/>
            <a:ext cx="5040360" cy="35877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Paranazalne šupljine   (sinusi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neumatski prostori u nekim kostima lica, obložene sluznicom, preko otvora u vezi sa nosnim šupljina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blošeni respiratornim epitelom, sličnim kao u nosnoj duplji ali tanjim i siromašnijim žlezdanim element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edn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axillarni, frontalni, (prednje ćelije ethmoidalni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Zadn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thmoidalni, sphenoidal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P-A"/>
          <p:cNvPicPr/>
          <p:nvPr/>
        </p:nvPicPr>
        <p:blipFill>
          <a:blip r:embed="rId1"/>
          <a:srcRect l="11356" t="4547" r="7185" b="12126"/>
          <a:stretch/>
        </p:blipFill>
        <p:spPr>
          <a:xfrm>
            <a:off x="468360" y="1341360"/>
            <a:ext cx="39416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7960" y="907560"/>
            <a:ext cx="42447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Funkcije: </a:t>
            </a:r>
            <a:r>
              <a:rPr b="1" lang="sr-Latn-CS" sz="2000" spc="-1" strike="noStrike">
                <a:solidFill>
                  <a:srgbClr val="00ff00"/>
                </a:solidFill>
                <a:latin typeface="Arial"/>
              </a:rPr>
              <a:t>?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espiratorna i zaštitn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kondicionira vazduh (prečišćava, zagreva, vlaž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fonacijska u rezonanciji gla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eorija (Šercer) o uspravnom hodu. Došlo do savijanja baze lobanje, pa su kosti lica postale teže u odnosu na kosti lobanje. Resorpcija kosti u neaktivnim delovima (frontalni, etmiodalni, sfenoidalni) i pojačana sila muskulature žvakanja (maksilarni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Lateralni_L"/>
          <p:cNvPicPr/>
          <p:nvPr/>
        </p:nvPicPr>
        <p:blipFill>
          <a:blip r:embed="rId1"/>
          <a:srcRect l="6053" t="3204" r="0" b="4770"/>
          <a:stretch/>
        </p:blipFill>
        <p:spPr>
          <a:xfrm>
            <a:off x="539640" y="1341360"/>
            <a:ext cx="3940200" cy="48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sinus Maxillaris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Zauzima corpus maxill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bilateralna simetr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Š-V 2x2 cm, V=15 m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iramidnog oblik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Medijalni zi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baza) gradi nosnu šupljin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Vrh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prema procesus zygomaticus maxilla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Ostium maxilla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neposredno ispod krova sinusa na med.zidu, nepovoljno zbog drenaž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611280" y="2637000"/>
            <a:ext cx="3615840" cy="3897000"/>
            <a:chOff x="611280" y="2637000"/>
            <a:chExt cx="3615840" cy="3897000"/>
          </a:xfrm>
        </p:grpSpPr>
        <p:pic>
          <p:nvPicPr>
            <p:cNvPr id="71" name="Picture 14" descr=""/>
            <p:cNvPicPr/>
            <p:nvPr/>
          </p:nvPicPr>
          <p:blipFill>
            <a:blip r:embed="rId1"/>
            <a:stretch/>
          </p:blipFill>
          <p:spPr>
            <a:xfrm>
              <a:off x="611280" y="2637000"/>
              <a:ext cx="3591000" cy="3887640"/>
            </a:xfrm>
            <a:prstGeom prst="rect">
              <a:avLst/>
            </a:prstGeom>
            <a:ln w="3240">
              <a:solidFill>
                <a:srgbClr val="ffffff"/>
              </a:solidFill>
              <a:miter/>
            </a:ln>
          </p:spPr>
        </p:pic>
        <p:sp>
          <p:nvSpPr>
            <p:cNvPr id="72" name="Rectangle 15"/>
            <p:cNvSpPr/>
            <p:nvPr/>
          </p:nvSpPr>
          <p:spPr>
            <a:xfrm>
              <a:off x="2703600" y="6165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Coronal sc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Group 4"/>
          <p:cNvGrpSpPr/>
          <p:nvPr/>
        </p:nvGrpSpPr>
        <p:grpSpPr>
          <a:xfrm>
            <a:off x="613800" y="549360"/>
            <a:ext cx="3597480" cy="2879640"/>
            <a:chOff x="613800" y="549360"/>
            <a:chExt cx="3597480" cy="2879640"/>
          </a:xfrm>
        </p:grpSpPr>
        <p:pic>
          <p:nvPicPr>
            <p:cNvPr id="74" name="Picture 5" descr=""/>
            <p:cNvPicPr/>
            <p:nvPr/>
          </p:nvPicPr>
          <p:blipFill>
            <a:blip r:embed="rId2"/>
            <a:stretch/>
          </p:blipFill>
          <p:spPr>
            <a:xfrm>
              <a:off x="615600" y="549360"/>
              <a:ext cx="3595680" cy="2879640"/>
            </a:xfrm>
            <a:prstGeom prst="rect">
              <a:avLst/>
            </a:prstGeom>
            <a:ln w="3240">
              <a:solidFill>
                <a:srgbClr val="ffffff"/>
              </a:solidFill>
              <a:miter/>
            </a:ln>
          </p:spPr>
        </p:pic>
        <p:sp>
          <p:nvSpPr>
            <p:cNvPr id="75" name="Rectangle 6"/>
            <p:cNvSpPr/>
            <p:nvPr/>
          </p:nvSpPr>
          <p:spPr>
            <a:xfrm>
              <a:off x="613800" y="5684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Axial sc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Gornji zi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krov) istovremeno i pod orb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Donji zi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formira processus alveolaris i tvrdo nep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Kod dece nivo sinusa jednak nivou poda u nosnoj šupljini. Kod odraslih 1,5 cm niže. 5-7 zuba u tesnoj vezi sa pod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ffff"/>
                </a:solidFill>
                <a:uFillTx/>
                <a:latin typeface="Arial"/>
              </a:rPr>
              <a:t>Zadnji zid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prema fossae pterygopalatinae sa canalis dentalis kroz koji prolaze vaskularizacija i inervacija za gornje zu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611280" y="2637000"/>
            <a:ext cx="3615840" cy="3897000"/>
            <a:chOff x="611280" y="2637000"/>
            <a:chExt cx="3615840" cy="3897000"/>
          </a:xfrm>
        </p:grpSpPr>
        <p:pic>
          <p:nvPicPr>
            <p:cNvPr id="78" name="Picture 10" descr=""/>
            <p:cNvPicPr/>
            <p:nvPr/>
          </p:nvPicPr>
          <p:blipFill>
            <a:blip r:embed="rId1"/>
            <a:stretch/>
          </p:blipFill>
          <p:spPr>
            <a:xfrm>
              <a:off x="611280" y="2637000"/>
              <a:ext cx="3591000" cy="3887640"/>
            </a:xfrm>
            <a:prstGeom prst="rect">
              <a:avLst/>
            </a:prstGeom>
            <a:ln w="3240">
              <a:solidFill>
                <a:srgbClr val="ffffff"/>
              </a:solidFill>
              <a:miter/>
            </a:ln>
          </p:spPr>
        </p:pic>
        <p:sp>
          <p:nvSpPr>
            <p:cNvPr id="79" name="Rectangle 11"/>
            <p:cNvSpPr/>
            <p:nvPr/>
          </p:nvSpPr>
          <p:spPr>
            <a:xfrm>
              <a:off x="2703600" y="6165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Coronal sc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" name="Group 12"/>
          <p:cNvGrpSpPr/>
          <p:nvPr/>
        </p:nvGrpSpPr>
        <p:grpSpPr>
          <a:xfrm>
            <a:off x="613800" y="549360"/>
            <a:ext cx="3597480" cy="2879640"/>
            <a:chOff x="613800" y="549360"/>
            <a:chExt cx="3597480" cy="2879640"/>
          </a:xfrm>
        </p:grpSpPr>
        <p:pic>
          <p:nvPicPr>
            <p:cNvPr id="81" name="Picture 13" descr=""/>
            <p:cNvPicPr/>
            <p:nvPr/>
          </p:nvPicPr>
          <p:blipFill>
            <a:blip r:embed="rId2"/>
            <a:stretch/>
          </p:blipFill>
          <p:spPr>
            <a:xfrm>
              <a:off x="615600" y="549360"/>
              <a:ext cx="3595680" cy="2879640"/>
            </a:xfrm>
            <a:prstGeom prst="rect">
              <a:avLst/>
            </a:prstGeom>
            <a:ln w="3240">
              <a:solidFill>
                <a:srgbClr val="ffffff"/>
              </a:solidFill>
              <a:miter/>
            </a:ln>
          </p:spPr>
        </p:pic>
        <p:sp>
          <p:nvSpPr>
            <p:cNvPr id="82" name="Rectangle 14"/>
            <p:cNvSpPr/>
            <p:nvPr/>
          </p:nvSpPr>
          <p:spPr>
            <a:xfrm>
              <a:off x="613800" y="5684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Axial sc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ffff99"/>
                </a:solidFill>
                <a:latin typeface="Arial"/>
              </a:rPr>
              <a:t>sinus Frontali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azvija se između spoljašnje-unutrašnje tabule front.kosti. Visina 1,5-2 cm, V= 6 m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Tankim intersinusnim septumom na D-L i na više preg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Otvara se u srednjem nosnom hodniku preko naso-frontalnog ductusa koji prolazi kroz prednji deo etmoidalnog labiri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457200" y="1600200"/>
            <a:ext cx="4038480" cy="4525920"/>
            <a:chOff x="457200" y="1600200"/>
            <a:chExt cx="4038480" cy="4525920"/>
          </a:xfrm>
        </p:grpSpPr>
        <p:pic>
          <p:nvPicPr>
            <p:cNvPr id="86" name="Picture 5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25920"/>
            </a:xfrm>
            <a:prstGeom prst="rect">
              <a:avLst/>
            </a:prstGeom>
            <a:ln w="3240">
              <a:solidFill>
                <a:srgbClr val="ffffff"/>
              </a:solidFill>
              <a:miter/>
            </a:ln>
          </p:spPr>
        </p:pic>
        <p:sp>
          <p:nvSpPr>
            <p:cNvPr id="87" name="Rectangle 6"/>
            <p:cNvSpPr/>
            <p:nvPr/>
          </p:nvSpPr>
          <p:spPr>
            <a:xfrm>
              <a:off x="2919600" y="573408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ffffff"/>
                  </a:solidFill>
                  <a:latin typeface="Arial"/>
                </a:rPr>
                <a:t>Coronal sca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075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Razvijaju se do 8-9 go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ali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49,4%   češći kod ž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Srednji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42,9%   zapremina oko 4-5 c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Veliki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7,7%   sa godinama procenat se poveć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Prekobrojni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 3,4% - 8,7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 profilnoj projekciji zahvata 1/4 - 1/3 orbite. U najvećem broju slučajeva nastaje od etmoidalnih ćelija koje podižu zadnji zid zadnjeunutrašnjeg uglu sinu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azofaringealni kanal počinje gornjim sinusnim otvorom koji leži u blizini sinusne pregrade. Kanal je dugačak 10-15 mm, širine 2-4 mm. prolazi kroz prednje etmoidalne ćelije gradeći interetmoidalni deo frontalnog sin. Otvara se u srednjem nosnom hodnik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Terrocol J., et all. Anatomie des fosses nasales et des cavites annexes. Librarie Maloine S.A. Paris, 1965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859280" y="907560"/>
            <a:ext cx="3749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ipo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Hiperpla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enormni koji se podvlače pod bazu loban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pnš zadebljanje sluz"/>
          <p:cNvPicPr/>
          <p:nvPr/>
        </p:nvPicPr>
        <p:blipFill>
          <a:blip r:embed="rId1"/>
          <a:stretch/>
        </p:blipFill>
        <p:spPr>
          <a:xfrm>
            <a:off x="539640" y="549360"/>
            <a:ext cx="35402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8" descr="g Sin l_sin"/>
          <p:cNvPicPr/>
          <p:nvPr/>
        </p:nvPicPr>
        <p:blipFill>
          <a:blip r:embed="rId2"/>
          <a:srcRect l="0" t="5872" r="0" b="29303"/>
          <a:stretch/>
        </p:blipFill>
        <p:spPr>
          <a:xfrm>
            <a:off x="1692360" y="3284640"/>
            <a:ext cx="3887640" cy="31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9:28:41Z</dcterms:created>
  <dc:creator>Milan</dc:creator>
  <dc:description/>
  <dc:language>en-US</dc:language>
  <cp:lastModifiedBy>Milan Mijailovic</cp:lastModifiedBy>
  <dcterms:modified xsi:type="dcterms:W3CDTF">2024-08-29T09:24:17Z</dcterms:modified>
  <cp:revision>21</cp:revision>
  <dc:subject/>
  <dc:title>Radiologija paranazalnih šupljina</dc:title>
</cp:coreProperties>
</file>